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2E1-A535-4CD3-9188-E2DB6BE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8AC-A0CB-4FCF-A8D0-29D6691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01EF4-2349-40A9-AFD3-86445364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4C4BB-292C-41CF-8647-F9320D5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4FEF2-2452-4BBF-AFA1-DD282085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3AE39-B993-4379-B00D-10211A3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3ED8-1A9D-46FB-BFDB-62EB66EB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6802D-0D53-422A-9CA5-A8B41E0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EA16C-68B4-4603-8443-8511FD2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0BC48-86E8-4470-ACE9-C8708F39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C3423-7675-4DB7-B278-D8A46574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839D0-811A-4040-B953-64F33578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9E7-B78C-4B72-8782-491D5EBE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7471E-3FC2-4411-AA0E-9CBEFEFF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237B9-8AE0-4E9A-88BA-05221AB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9585D-4D3F-45C0-812C-89AA0AC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F81A8-D00C-48E7-860B-7647390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95EFC-2E40-423C-AF22-E0AA3436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B806D-3E42-41EC-9B51-19D6D18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2E2D1-9999-432A-9F9E-4E97FD96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B5F31-F435-4ED8-B7BD-36A9D9B1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25560-174B-4553-B36C-4460AA3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E6170-F962-4FE4-9EF1-2427696D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F87-A812-4812-84BD-0461B5BD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10C01-22DF-4E7B-8960-E35333B6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9BD37-1397-47CE-BC4D-3B5893A0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A729-720D-4D3C-B5EB-ECFC37C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14BEF-C978-4329-8BF4-CB98B134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A1A3D-910D-4E8D-ADDC-41C7D024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1758E-3EEC-494A-8DF0-0C3705B1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7C4FC-6010-44E5-8829-DF1920F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0C26-D773-4025-99B2-FFFE9B3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4CC18-E7F0-4868-B686-BA08188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1377D-7F5A-43B4-8B8D-C1CE85F9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A5D0-39CB-4AD0-8B19-DE6576B8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2193F-30C4-4D5D-A63A-95447712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0CA9C-67C1-4B38-B132-74A1C967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A4E7-5632-462F-9B5E-9FFD4240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28023-8DA9-4B14-AB7B-F1F65F83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9F23C-9D08-4C1A-B684-B85E13F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A2B3A-66FB-4EDA-A1B3-984ED43D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FA271-A73E-48AA-B745-270708C6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C045F-2ADD-4119-AB26-EA255B8E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E45AF-D090-4419-A042-3E4470F0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AEF14-00E6-456C-9480-42BEF8F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3A90-C3A8-4154-85D9-460609E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DE011-F445-45D8-B7D3-A3F183A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15C5D-D86D-41B9-B8DE-3E284475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8F0AC-3420-4C1A-B777-FF85ACF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90F1A-3433-41D2-B3D3-00184A3D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DA5C9-F395-4A0F-B3F7-E9879B1D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82CEA-44AD-4362-A354-7B043E93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78FF4-2AF5-477C-8DA1-C9091709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FAFB0-F7FD-43CB-B189-463475A2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6E77A-7A16-4C53-895B-87A66867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CDD057-1AB0-4F72-82FD-1FE4CF9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5ECD-51ED-41A2-81F2-D5280135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F3B35-8B14-4582-9928-D67CCD6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F19FC-F82F-4D2C-91F2-52D66EBF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6B32C-64B0-4E82-B987-05E85900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44E9F-41CD-4CDD-920C-E42F607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7A4B2-48A9-44D8-8468-7B09CD45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01697-22E3-4D7A-AC50-068C6A6C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8D7449-E192-4514-9FA1-085B2DEB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AAE03-B032-4F1B-B819-BE1A7F0E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5F867-3210-43D5-AA8D-BD54EF36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400FE-40ED-4821-8603-F75ED26B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4A5C-EFA2-45D3-95BF-A1B3FA5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D3807-A798-4AFE-AA4C-6BEDA684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62F70-744A-4DC3-BB6A-B07F93D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A4B0C-1517-4398-81D6-52C91E43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189C1-920F-4933-8F95-C1C8557C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3B026-FD77-4983-A5C9-7D24324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6CE94-F669-4FCD-8B65-926352F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C41C1-6EDB-42C4-A803-80C384EB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55971-F4AA-49D2-AB07-F499FBDF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34FA3-43B3-4289-AA67-B091D40D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FF338-7CF3-4998-B068-4413D3BD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445D-1FB1-406A-B01C-B458D36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A5A37-C152-42D6-9A9C-FDC2AF3E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7C347-DA0D-4606-B889-1A64674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75BA3-8282-4F72-9BAB-9522419D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E791E-FC7E-47EB-882B-E9D646C1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4CE2A-C27B-4C70-AB9A-751FE79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6B481-5AF4-4ADA-9147-28CFF0A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9830A-72D7-4835-A37C-9AA560B9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92EF7-223E-430E-B913-F7F5A90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E0123B-D24F-40F8-B632-222BA845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2BF57-8640-42C6-93A1-2D612788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AD01-A32B-4633-912A-2A1CF3A6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02D1A-5E41-4F79-AC42-ACE1B81D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C13B5-D5D8-4A0F-AA5C-D85FC203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70316-B91D-42BB-B329-9703FCF0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952BB-C801-4636-B259-26C59985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10FFD-1390-42FA-BF0E-52EAF74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22C52-F9CD-4BFB-9EED-1556E03D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4CBC9-0D20-4FD6-B51A-B9A5E62F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8AC18-8929-4718-B55B-7DF2E93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770B9-ED13-4C31-A987-70772CDB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BA48F-093B-4A9D-9AB0-9E95FA0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109D-4AF1-4C89-A54E-38DDC8A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706D8-8BA9-4AD2-B69C-03BED94B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55A12-1173-4C60-A11E-83F851AB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FF951-64D8-4C36-80D1-CF1ECAFB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34D59-9E1B-4770-92F7-3C78E425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1F14F-564C-4CFD-BF7C-B075CDA6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2F2A9-28F0-4D15-9D7E-7470ACBC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48A039-9772-4F6B-A560-622B9CC0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9D33C-BBFC-446C-93D8-3C2017E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1BB519-F886-4463-B53F-1B671C2D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5427D-8E06-4C71-B865-538652EA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9FF-BF17-4BC5-87B1-0B830B7F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A471-1D39-4A7B-889B-61A09C1C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B24BA4-942E-469B-BC4B-3DAB38E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6A7AF-BE29-4333-B702-57B9E298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98567-8AEC-4634-818D-AD993561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D475E-ED2D-46E7-A6A5-349B9BA4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AAE0B-83B0-4F54-9F5A-19BFB2A1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5F69C2-945D-4513-B37A-C89E2D75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7C276-66FD-4DE3-9B24-4277E95C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195C0-F613-4D40-BA69-87750886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78FB1-D304-4276-A281-5E97EF8D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E2725-1F5A-4706-8858-0D45C6A6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D5FF-8CCD-48D9-A7E4-FD81F45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98AC4-A412-4408-87CC-B973EB37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882F6-83B1-4EFF-96AC-CE1DCE9B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9914D2-32C6-40E2-B425-9A98D95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56EF0-C823-497E-BA15-D69F88F2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41F5A-B4E6-4669-9AC7-B003B73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C2F5B-F4FF-4468-B5A1-32EB6833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4DBBF-F614-4B4E-A187-8B616B3D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4B78D-E2D7-400D-AEB4-D658977D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104B74-868C-4628-9AEB-E405455B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37358-67A0-4FEA-A429-42B02985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518-09B8-4FE1-A03E-78FD9A3C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D03F4C-78A3-460D-9F69-F0C8797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6B207-BC4D-4D2A-941B-0B603D32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E8C0D-0B13-43A2-9C52-6AC196CE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68A7F-FD0A-4804-83D8-698827D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765A8-72FC-4053-9FAC-E89966E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C98F4-7327-4A7B-B375-745740EA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7E9B1-F253-49D8-AB74-DFD9A51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15B34-F520-4D9F-AABB-84C8603C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5F9F2-5FBC-4284-83C8-FF4D8EF6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2BCCB-4B30-47E7-9A44-BEAB16C3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0D80-ADD2-4019-AFA4-775A4321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5362D-5486-4079-87D9-F049C6B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D9E6A-9247-42F3-9E53-A226EE2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C5829-08F5-4880-8CA6-4E8DEC9F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FC80E-7CFA-47A0-97FF-CD46780E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CDAD22-0E91-4F97-9D48-F78AAA44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2269D-4389-4F2C-980F-C1C22D67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9F5572-2FAC-4D6E-9A69-6D8C4C8C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368629-E26A-4E08-981F-D7EEF06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6BF763-D310-4B79-BC9F-2208CF5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FAC2E-C416-4118-85D6-CFB5D41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399-A422-4E02-B24A-741768A9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47B4B-90FA-4DA7-94D4-D9D90335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2D01-3030-4A41-ADF6-7F3BE46A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F8E2-1D54-44CE-AD32-5B73D407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6E10-DC8A-4298-ABC7-564D0DA4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EA52C-0A81-4AF4-9876-D8F3E4C9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6EB1-8838-494D-B570-D947830A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249-DB90-42D0-A89E-12EFB777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622C-F424-40BC-AB54-3E0C5EFB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1E57-F0F1-405E-95F5-2555D04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EEA6-3C57-44FA-B15E-713B4CF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C4F90-4005-403A-A727-AE82BF0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17D4-D312-4826-96F9-D2C24AA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3D878-5816-453A-85D5-03F6CF2B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E9654-AC82-4B66-99B2-D9201CFE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66783-2EB4-4EE7-B872-11CF0ED8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8E101-A241-4D54-A891-455D0412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7A6FA-6CAA-40B6-B0AC-661DB817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905-433F-47B5-BD07-9C47071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768F8-223C-4136-9396-451CF5F7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088B3-6120-42D6-A19F-1AB6DAE5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D8C44-0CB6-460C-AB0A-C24AA777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479526-36BE-4A85-BC1F-E589C5B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968A3-1EDF-4877-8347-AD52720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90752-7836-4536-BC83-E90611F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D4C43-E878-484F-822C-1C1F2EA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0483D-EB00-4A51-AA08-73A173E6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EC5E1-A3A1-44EA-B01D-CA849475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DEF5-4C92-40E7-A60E-46141A26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BEC-3C09-47A6-886C-82321B0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DFF0-B3C1-4AEE-A86C-C84BE53C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3BAE-E78B-4667-BB55-D58E9CA4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D271-251B-42E5-BCC1-B43A7DD2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A8FF-6662-4E70-B94B-D1B411E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22B8-DFFB-4036-8208-0D603EC3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85083-39ED-49DF-8544-EACC1ACC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867BB-F053-45E8-B2DA-5BF20605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1FCB-489D-481A-A25B-564924D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70D3-B09C-40CE-8A21-07441E9D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8C8D-5492-4C52-877F-2220E067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614-A835-4F2D-936D-334A6BF8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635E-90D6-46C2-8554-28D63034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331A1-1598-4E5D-A920-C806BEC0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79E46-0B7B-4725-83E0-A81B2F05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8EAD-C640-406E-B5FA-E35DF958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5124-452B-4632-9986-A3BD92E4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DCDA-FB34-4642-A175-DFC12E93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3C34-B01D-40D2-945E-E8C906F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E7ED-31B2-4C6C-8869-F1C9DD0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6D8EF-4C04-4207-B19A-A42B8C4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5925B-E1C4-448E-808B-FE82642A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69F-F374-42D5-A37C-875E59B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9673-9C8C-4D81-9946-F38DC192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65FF1-08A2-462B-8E47-D068F29E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A3EB-3F2F-4E3E-BF78-C3CF0FBF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76E6-85BD-47C0-ADB4-D11AC300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808C-8D27-4EFE-9A96-EFAF07A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4771-5101-466F-9275-1D902A9E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4D3D-DCAC-4E6A-86A0-AB8860C8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0AF8-B106-4E47-915B-205D267B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A715-EE19-4F86-B1EC-F251E2F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FDB2E-988D-42D8-A169-C437187A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116-4B58-4F43-9971-EB8C4CA5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1DB6-2400-4FC1-8497-0E12473A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3B0EE-F607-4B08-B852-006810C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F8C79-EBCF-4F5B-98EC-16E604E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11DDB-A375-4411-9F04-56197B41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5E1FF-2ED8-48BA-AB84-EB970588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51E4-E857-4CF1-B812-08AE4671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0B806-9E44-41BB-8454-6B72BD6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5878-7D7F-458B-B424-47A7829B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E613A-FC22-41B3-8117-510F746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13C9-8E31-409E-946D-97FC4B94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A3C-2952-4E1F-B361-3DECC85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729CA-906F-4508-B41F-E39EE193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7FF0B-A4E5-43DD-857B-ABD792F6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881BE-3924-4095-98E6-E7673ED8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5D53-239A-402A-B912-48DE0A5B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63134-E6F1-49AF-AE48-CC5D53F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692F-BC5C-4B4E-AF0F-EA417D9B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E7D70-1E07-4108-ACB7-C5E7D844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5A08A-91FF-44E8-A05E-3A60FE80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F0AD3-7D8E-41F3-9A00-282A5340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53765-8F24-4B3D-BF43-BD7BE6D0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96E3-3EB2-4F7E-BFB2-70125CA7D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4522-6161-48C5-AE78-04C72860D5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E71-495A-401B-8FDD-9CBDA8FD4C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A8C-A30B-4C8F-AF12-EED09A2CCD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5C27-5B4D-431D-B1DC-C6997FC92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27F3-097B-4E6A-850A-E1DE1E353E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BB40-B608-4217-A47E-008386119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CFE-4B7C-43D0-94F9-703EE83FCC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5347-7E57-4A59-B1B9-61AF07B6DA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D76-013D-42AA-A42D-092E1906D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E9C-FA55-4C96-B66A-CA056BE519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205-D341-4A2A-A8FE-77207343A1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2D1A-3543-48EE-A203-9067620585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D2C-014E-4B8C-8EC4-ADD25139B4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0411-05D7-4CF5-BC1D-2277E32AF2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3FF-7E94-4E56-B7BB-902F1050B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FE1-DB4D-43F2-AB24-DAE0658D2B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F357-FF21-4E94-A66E-103D9D1BEC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688-4FC1-4259-9B19-815692B69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B800-AEA6-44B6-9CA8-1E8E1F182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AB7-853B-4D36-AF69-ACCA56E728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D81D-91AE-4ED2-B49F-ECEB82C5F3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7826-55EF-4B6C-BCC8-6FCE86B3E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6E3-0403-4FDB-991A-2FF6B0CBB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F38-A928-42E1-A700-4ACE81DE2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2D1-6D58-4973-ADD6-031054EB7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503B-A5C6-411F-BE80-556345D82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4945-1E00-4E0A-A54F-24C4CE5A54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DFD-8E1F-45A9-83D7-7D89952F7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9182-B28C-4F69-9866-9362A59A5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C22-23FE-4E7D-AEBF-1B9895AD9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E014-02A1-496C-AC0B-A8C10CE3A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E51-63CC-4BF2-BBDA-769002C9D6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65D3-D92D-47E4-90C0-76FAEDD785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CA11-14DF-4D79-98CA-E6D922F0B4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1E7C-9C5E-445F-B657-123555A12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412-8C25-4754-AFFE-1437FC513A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16A-F0D5-4A42-9461-F73F64803F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093803"/>
          <p:cNvPicPr/>
          <p:nvPr/>
        </p:nvPicPr>
        <p:blipFill>
          <a:blip r:embed="rId1"/>
          <a:stretch/>
        </p:blipFill>
        <p:spPr>
          <a:xfrm>
            <a:off x="473040" y="428760"/>
            <a:ext cx="8070840" cy="16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69633" descr=""/>
          <p:cNvPicPr/>
          <p:nvPr/>
        </p:nvPicPr>
        <p:blipFill>
          <a:blip r:embed="rId1"/>
          <a:stretch/>
        </p:blipFill>
        <p:spPr>
          <a:xfrm>
            <a:off x="385920" y="1690560"/>
            <a:ext cx="8372160" cy="347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539640" y="2843280"/>
            <a:ext cx="4248360" cy="2793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4248000" cy="2793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539640" y="3592440"/>
            <a:ext cx="4248360" cy="2793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539640" y="3971880"/>
            <a:ext cx="424836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539640" y="4365720"/>
            <a:ext cx="4248360" cy="2793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611280" y="4734000"/>
            <a:ext cx="42480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68609" descr=""/>
          <p:cNvPicPr/>
          <p:nvPr/>
        </p:nvPicPr>
        <p:blipFill>
          <a:blip r:embed="rId1"/>
          <a:stretch/>
        </p:blipFill>
        <p:spPr>
          <a:xfrm>
            <a:off x="409680" y="831960"/>
            <a:ext cx="8324640" cy="5476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684360" y="1585800"/>
            <a:ext cx="6767280" cy="279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611280" y="1935000"/>
            <a:ext cx="6767280" cy="279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684360" y="2286000"/>
            <a:ext cx="6767280" cy="279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684360" y="2698920"/>
            <a:ext cx="6767280" cy="2793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39640" y="409572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539640" y="445608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539640" y="481644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539640" y="516744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611280" y="553572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1"/>
          <a:stretch/>
        </p:blipFill>
        <p:spPr>
          <a:xfrm>
            <a:off x="611280" y="5931000"/>
            <a:ext cx="83534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67585" descr=""/>
          <p:cNvPicPr/>
          <p:nvPr/>
        </p:nvPicPr>
        <p:blipFill>
          <a:blip r:embed="rId1"/>
          <a:stretch/>
        </p:blipFill>
        <p:spPr>
          <a:xfrm>
            <a:off x="390600" y="2276640"/>
            <a:ext cx="8362800" cy="2304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539640" y="3016080"/>
            <a:ext cx="8353440" cy="279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539640" y="336708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539640" y="3726000"/>
            <a:ext cx="8353440" cy="2793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539640" y="4086360"/>
            <a:ext cx="83534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66561" descr=""/>
          <p:cNvPicPr/>
          <p:nvPr/>
        </p:nvPicPr>
        <p:blipFill>
          <a:blip r:embed="rId1"/>
          <a:stretch/>
        </p:blipFill>
        <p:spPr>
          <a:xfrm>
            <a:off x="404640" y="1238400"/>
            <a:ext cx="8334720" cy="43812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611280" y="3602160"/>
            <a:ext cx="820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611280" y="3962520"/>
            <a:ext cx="820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611280" y="4346640"/>
            <a:ext cx="8208720" cy="279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611280" y="4705200"/>
            <a:ext cx="8208720" cy="279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611280" y="5051520"/>
            <a:ext cx="82087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252360" y="800280"/>
            <a:ext cx="8639280" cy="5724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2411280" y="1249200"/>
            <a:ext cx="576360" cy="279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516720" y="125892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2050920" y="163836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284720" y="163836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2565360" y="204156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3635280" y="2008080"/>
            <a:ext cx="576360" cy="279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2771640" y="278136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7667640" y="278136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3276720" y="315108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7236000" y="316080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3780000" y="3564000"/>
            <a:ext cx="431640" cy="279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6948360" y="356400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5354640" y="3933720"/>
            <a:ext cx="585720" cy="279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7020000" y="3943440"/>
            <a:ext cx="865080" cy="2793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1332000" y="4311720"/>
            <a:ext cx="865080" cy="279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1116000" y="5075280"/>
            <a:ext cx="503280" cy="2793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8"/>
          <a:stretch/>
        </p:blipFill>
        <p:spPr>
          <a:xfrm>
            <a:off x="3276720" y="5815080"/>
            <a:ext cx="503280" cy="2793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9"/>
          <a:stretch/>
        </p:blipFill>
        <p:spPr>
          <a:xfrm>
            <a:off x="1476360" y="6237360"/>
            <a:ext cx="5032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9410" descr=""/>
          <p:cNvPicPr/>
          <p:nvPr/>
        </p:nvPicPr>
        <p:blipFill>
          <a:blip r:embed="rId1"/>
          <a:stretch/>
        </p:blipFill>
        <p:spPr>
          <a:xfrm>
            <a:off x="233280" y="1143000"/>
            <a:ext cx="8677440" cy="45720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6804000" y="1557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3348000" y="19256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8244000" y="2349360"/>
            <a:ext cx="360360" cy="2797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3419640" y="2708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6353280" y="2717640"/>
            <a:ext cx="360360" cy="279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2843280" y="3817800"/>
            <a:ext cx="936720" cy="2793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8244000" y="460044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0"/>
          <a:stretch/>
        </p:blipFill>
        <p:spPr>
          <a:xfrm>
            <a:off x="8244000" y="5013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1"/>
          <a:stretch/>
        </p:blipFill>
        <p:spPr>
          <a:xfrm>
            <a:off x="8244000" y="538308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58373" descr=""/>
          <p:cNvPicPr/>
          <p:nvPr/>
        </p:nvPicPr>
        <p:blipFill>
          <a:blip r:embed="rId1"/>
          <a:stretch/>
        </p:blipFill>
        <p:spPr>
          <a:xfrm>
            <a:off x="228600" y="1190520"/>
            <a:ext cx="8686800" cy="4476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2"/>
          <a:stretch/>
        </p:blipFill>
        <p:spPr>
          <a:xfrm>
            <a:off x="8244000" y="117792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3"/>
          <a:stretch/>
        </p:blipFill>
        <p:spPr>
          <a:xfrm>
            <a:off x="8317080" y="155736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4"/>
          <a:stretch/>
        </p:blipFill>
        <p:spPr>
          <a:xfrm>
            <a:off x="7020000" y="2349360"/>
            <a:ext cx="360360" cy="2797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5"/>
          <a:stretch/>
        </p:blipFill>
        <p:spPr>
          <a:xfrm>
            <a:off x="3492360" y="3078000"/>
            <a:ext cx="360360" cy="2797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6"/>
          <a:stretch/>
        </p:blipFill>
        <p:spPr>
          <a:xfrm>
            <a:off x="4500720" y="444672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57352" descr=""/>
          <p:cNvPicPr/>
          <p:nvPr/>
        </p:nvPicPr>
        <p:blipFill>
          <a:blip r:embed="rId1"/>
          <a:stretch/>
        </p:blipFill>
        <p:spPr>
          <a:xfrm>
            <a:off x="352440" y="2286000"/>
            <a:ext cx="8439120" cy="2286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60360" cy="2793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3"/>
          <a:stretch/>
        </p:blipFill>
        <p:spPr>
          <a:xfrm>
            <a:off x="4662360" y="3889440"/>
            <a:ext cx="3603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56324" descr=""/>
          <p:cNvPicPr/>
          <p:nvPr/>
        </p:nvPicPr>
        <p:blipFill>
          <a:blip r:embed="rId1"/>
          <a:stretch/>
        </p:blipFill>
        <p:spPr>
          <a:xfrm>
            <a:off x="747720" y="1781280"/>
            <a:ext cx="7648560" cy="32954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1042920" y="3500280"/>
            <a:ext cx="3457800" cy="2797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3457440" cy="2797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4"/>
          <a:stretch/>
        </p:blipFill>
        <p:spPr>
          <a:xfrm>
            <a:off x="900000" y="4230720"/>
            <a:ext cx="3457800" cy="2793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5"/>
          <a:stretch/>
        </p:blipFill>
        <p:spPr>
          <a:xfrm>
            <a:off x="900000" y="4653000"/>
            <a:ext cx="3457800" cy="2793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6"/>
          <a:stretch/>
        </p:blipFill>
        <p:spPr>
          <a:xfrm>
            <a:off x="5292720" y="3500280"/>
            <a:ext cx="3457440" cy="2797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7"/>
          <a:stretch/>
        </p:blipFill>
        <p:spPr>
          <a:xfrm>
            <a:off x="5219640" y="3879720"/>
            <a:ext cx="345780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55300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21333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2"/>
          <a:stretch/>
        </p:blipFill>
        <p:spPr>
          <a:xfrm>
            <a:off x="4211640" y="2852640"/>
            <a:ext cx="3960720" cy="2793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3960720" cy="279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4"/>
          <a:stretch/>
        </p:blipFill>
        <p:spPr>
          <a:xfrm>
            <a:off x="4211640" y="3592440"/>
            <a:ext cx="3960720" cy="2793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5"/>
          <a:stretch/>
        </p:blipFill>
        <p:spPr>
          <a:xfrm>
            <a:off x="4140360" y="4005360"/>
            <a:ext cx="396072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54276" descr=""/>
          <p:cNvPicPr/>
          <p:nvPr/>
        </p:nvPicPr>
        <p:blipFill>
          <a:blip r:embed="rId1"/>
          <a:stretch/>
        </p:blipFill>
        <p:spPr>
          <a:xfrm>
            <a:off x="247680" y="933480"/>
            <a:ext cx="8648640" cy="49910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1042920" y="2104920"/>
            <a:ext cx="7921800" cy="2793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1042920" y="2492280"/>
            <a:ext cx="7921800" cy="2793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971640" y="4375080"/>
            <a:ext cx="7921440" cy="279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900000" y="4797360"/>
            <a:ext cx="7921800" cy="2793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971640" y="5157720"/>
            <a:ext cx="7921440" cy="2793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990720" y="5526000"/>
            <a:ext cx="792144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图片 52231" descr=""/>
          <p:cNvPicPr/>
          <p:nvPr/>
        </p:nvPicPr>
        <p:blipFill>
          <a:blip r:embed="rId1"/>
          <a:stretch/>
        </p:blipFill>
        <p:spPr>
          <a:xfrm>
            <a:off x="538200" y="2405160"/>
            <a:ext cx="8067600" cy="20476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755640" y="3222720"/>
            <a:ext cx="7993080" cy="2793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755640" y="3602160"/>
            <a:ext cx="7993080" cy="2793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755640" y="3995640"/>
            <a:ext cx="799308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1:40:3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